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72A28-A3A1-4123-A269-DABC8F692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28B66-331A-4A9B-88F3-3D131A26B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0A2F7-F4EC-4BD1-BE52-368C3F1E5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3AC46-1C90-4B31-9DCD-D697DF439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A6AEC-E6EE-44C8-B34C-1976CA778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67807-6F01-49B6-88FE-FADAADCDF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186B9-1C90-4387-95F7-987286370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8D2E6-0CF7-45EF-90EA-21F47F106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BF707-444D-4F35-878F-E6E303E5C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DFA8D-791B-4963-A6AA-437168B6F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64FB4-F869-4394-BB63-E35875F90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E9A7E-5192-49C7-AC32-F98ECF4C4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EDD70-1C1A-43AE-A51A-D8FED070D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14E9F-45C1-4D37-B0FA-1139D9A94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3F29A-AC26-4F57-964B-FC01E0220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2C923-FEC9-4AB7-A510-00D0A5F4E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FA035-486D-41B0-875B-C1D7CDDD6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9F6BE-4C58-446B-8F19-CF1412B68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1FA52-2497-471A-9578-C1F3DAB88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ABFC2-AC29-4B7B-9440-FA6C6F53C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FC086-CC25-455C-8835-9A8EB22A4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6B6EF-9FEF-4F71-BA1C-71A72ACAD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7DCFA-AECF-4918-96D8-D065CCD07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98750-95AC-4C56-9C12-81BC8308A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1AB6C-4206-4567-931C-098985570F0C}" type="slidenum">
              <a:rPr b="0" lang="es-E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60431-53CA-422B-B989-3933BF3779F3}" type="slidenum">
              <a:rPr b="0" lang="es-E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333399"/>
                </a:solidFill>
                <a:latin typeface="Tahoma"/>
              </a:rPr>
              <a:t>BASES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352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ahoma"/>
              </a:rPr>
              <a:t>2da. Jornada de Bibliotecas y Centros de Documentación de la Universidad de Buenos Aire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09 de agosto de 200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333399"/>
                </a:solidFill>
                <a:latin typeface="Tahoma"/>
              </a:rPr>
              <a:t>En conclusión ..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ahoma"/>
              </a:rPr>
              <a:t>Colaboración entre asociaciones profesionales (CPAU, SCA) y del área de la educación superior pública (FADU-UBA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ahoma"/>
              </a:rPr>
              <a:t>Primer paso para la creación de un catálogo colectivo unificado de la re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333399"/>
                </a:solidFill>
                <a:latin typeface="Tahoma"/>
              </a:rPr>
              <a:t>Histori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838080" y="2286000"/>
            <a:ext cx="7620120" cy="37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000000"/>
                </a:solidFill>
                <a:latin typeface="Tahoma"/>
              </a:rPr>
              <a:t>1er Encuentro de Bibliotecas de Arquitectura, Arte, Diseño y Urbanismo (Buenos Aires : 1994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Mejorar el acceso a los recursos de las Bibliotec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MX" sz="1800" spc="-1" strike="noStrike">
                <a:solidFill>
                  <a:srgbClr val="000000"/>
                </a:solidFill>
                <a:latin typeface="Tahoma"/>
              </a:rPr>
              <a:t>Creación de la Red Vitruvi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MX" sz="1800" spc="-1" strike="noStrike">
                <a:solidFill>
                  <a:srgbClr val="000000"/>
                </a:solidFill>
                <a:latin typeface="Tahoma"/>
              </a:rPr>
              <a:t>Uso de un lenguaje común para la descripción </a:t>
            </a:r>
            <a:r>
              <a:rPr b="0" lang="es-MX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Tahoma"/>
              </a:rPr>
              <a:t>temática </a:t>
            </a:r>
            <a:r>
              <a:rPr b="0" lang="es-MX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Tahoma"/>
              </a:rPr>
              <a:t>(Vocabulario controlado de Arquitectura, Arte, Diseño y </a:t>
            </a:r>
            <a:r>
              <a:rPr b="0" lang="es-MX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Tahoma"/>
              </a:rPr>
              <a:t>Urbanismo. Buenos Aires : GREBYD, 2004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800" spc="-1" strike="noStrike">
                <a:solidFill>
                  <a:srgbClr val="000000"/>
                </a:solidFill>
                <a:latin typeface="Tahoma"/>
              </a:rPr>
              <a:t>BASES</a:t>
            </a:r>
            <a:r>
              <a:rPr b="0" lang="es-MX" sz="1800" spc="-1" strike="noStrike">
                <a:solidFill>
                  <a:srgbClr val="000000"/>
                </a:solidFill>
                <a:latin typeface="Tahoma"/>
              </a:rPr>
              <a:t> es el resultado directo de la creación de la Red y el uso del </a:t>
            </a:r>
            <a:r>
              <a:rPr b="0" lang="es-MX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Tahoma"/>
              </a:rPr>
              <a:t>vocabulario comú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333399"/>
                </a:solidFill>
                <a:latin typeface="Tahoma"/>
              </a:rPr>
              <a:t>Histori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Bases 1 (200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Biblioteca Central FADU-UB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Biblioteca del CPAU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Biblioteca de la SC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Bases 2 (2005) agreg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Biblioteca del Instituto de Arte Americano (IAA-UBA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Biblioteca del Programa de Planificación Urbana y Regional (PROPUR-UB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333399"/>
                </a:solidFill>
                <a:latin typeface="Tahoma"/>
              </a:rPr>
              <a:t>Bases que incluye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ahoma"/>
              </a:rPr>
              <a:t>FADU-UBA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Monografías de la biblioteca central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Analíticas de la biblioteca central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Biblioteca del Instituto de Arte American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Biblioteca del PROPU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333399"/>
                </a:solidFill>
                <a:latin typeface="Tahoma"/>
              </a:rPr>
              <a:t>Bases que incluye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ahoma"/>
              </a:rPr>
              <a:t>Sociedad Central de Arquitecto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Monografía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Analític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ahoma"/>
              </a:rPr>
              <a:t>Consejo Profesional de Arquitectura y Urbanismo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Monografía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Analítica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Publicaciones seriada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83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83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83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8320" cy="57150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762120" y="571680"/>
            <a:ext cx="7618320" cy="5715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762120" y="571680"/>
            <a:ext cx="76183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28T17:27:26Z</dcterms:created>
  <dc:creator>GENERICA</dc:creator>
  <dc:description/>
  <dc:language>en-US</dc:language>
  <cp:lastModifiedBy>oper</cp:lastModifiedBy>
  <dcterms:modified xsi:type="dcterms:W3CDTF">2006-09-06T13:48:25Z</dcterms:modified>
  <cp:revision>52</cp:revision>
  <dc:subject/>
  <dc:title>BASES 2</dc:title>
</cp:coreProperties>
</file>