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674-9355-43A1-9328-CE06681A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93F-AC88-4CC2-80FA-9AEC674A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D21-E088-4BB2-BF2E-0D9DB1B8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F46-E33B-4F0F-A7B7-224EB2C6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A758-D8A4-4A2F-B1A5-92CC79E3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2AAF-D19A-40AD-8F9A-ABE78286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CEA0-F992-45E8-8F1F-73DA9E1E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DF94-14AE-4E24-8C6E-40E8531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43B4-2444-4A2C-BF48-7F81312D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512E-2F09-4439-9228-A19C83C1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2466-068E-4B78-89CE-0C02B525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E51-7F3A-4BD5-AA8F-44357A74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ED29-16E1-4822-8B14-01FFFE84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30DD-D5A5-4245-9B6F-44D490F9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3CA2-2073-4C58-8978-98E229BC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8D05-9E31-4B23-BA14-3F79DD69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9563-77C3-4F40-A3FE-340C4A03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45F-6D18-45BA-843F-09A7FCAE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37C-A9FB-4142-B468-A7399984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F91-38E7-4A1F-AF16-84751C00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5BF-00CA-4FF9-9137-66A51B03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EAC-6E58-42C1-BD44-B28B409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080-9EFA-4441-B623-A37F3A21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EA0-C349-4BD3-BB8B-231CC0D0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1553-2FD6-4FFD-9094-21D428525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5DA8-CE8A-41C2-86FC-C924E09E0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cbcbcb"/>
                </a:solidFill>
                <a:latin typeface="Calisto MT"/>
              </a:rPr>
              <a:t>REFERENCIA VIRTU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sto MT"/>
              </a:rPr>
              <a:t>FACULTAD DE DERECH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Calisto MT"/>
              </a:rPr>
              <a:t>UNIVERSIDAD DE BUENOS 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sto MT"/>
              </a:rPr>
              <a:t>BIBLIOTECA CEN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sto MT"/>
              </a:rPr>
              <a:t>Silvia Abad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sto MT"/>
              </a:rPr>
              <a:t>Corina Tiribel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sto MT"/>
              </a:rPr>
              <a:t>busuari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@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Calisto MT"/>
              </a:rPr>
              <a:t>derecho.uba.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sto MT"/>
              </a:rPr>
              <a:t>ctiribel@derecho.uba.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ca de la Facultad de Derecho.U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307-F6B9-4FD5-A851-801A9C2A95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bcbcb"/>
                </a:solidFill>
                <a:latin typeface="Trebuchet MS"/>
              </a:rPr>
              <a:t>ALGUNOS DA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  <a:ea typeface="Verdana"/>
              </a:rPr>
              <a:t>PARQUE EN USO DE EQUIPOS EN LA ARGEN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  <a:ea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  <a:ea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  <a:ea typeface="Verdana"/>
              </a:rPr>
              <a:t>2006.           6.2 millones de equ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  <a:ea typeface="Verdana"/>
              </a:rPr>
              <a:t>2007.           estiman que se venderán </a:t>
            </a:r>
            <a:r>
              <a:rPr b="1" lang="es-AR" sz="28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8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8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  <a:ea typeface="Verdana"/>
              </a:rPr>
              <a:t>en el año 1.5 millones de equ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Verdana"/>
              </a:rPr>
              <a:t> </a:t>
            </a:r>
            <a:r>
              <a:rPr b="0" lang="es-AR" sz="1400" spc="-1" strike="noStrike">
                <a:solidFill>
                  <a:srgbClr val="ffffff"/>
                </a:solidFill>
                <a:latin typeface="Trebuchet MS"/>
              </a:rPr>
              <a:t>Datos de PRICE AND COOKE ASOCI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ca de la Facultad de Derecho.U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0FC-578D-4344-820D-45F7D15D75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rebuchet MS"/>
                <a:ea typeface="Verdana"/>
              </a:rPr>
              <a:t>CANTIDAD DE USUARIOS EN INTERNET EN LA ARGENTINA</a:t>
            </a: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2006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13 millones de personas físicas distintas 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se conectaron por lo menos dos veces 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por sem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46% desde sus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26 % desde cibercafes y locu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28 %  otros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- Instituciones 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2007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e estima un crecimiento superior al 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  <a:ea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rebuchet MS"/>
              </a:rPr>
              <a:t>Datos de PRICE AND COOKE ASOCI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ca de la Facultad de Derecho.U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E71-FB5E-4D34-9CC3-9161725101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bcbcb"/>
                </a:solidFill>
                <a:latin typeface="Trebuchet MS"/>
              </a:rPr>
              <a:t>FACULTAD DE DERECHO </a:t>
            </a:r>
            <a:br>
              <a:rPr sz="3200"/>
            </a:br>
            <a:r>
              <a:rPr b="0" lang="es-AR" sz="3200" spc="-1" strike="noStrike">
                <a:solidFill>
                  <a:srgbClr val="cbcbcb"/>
                </a:solidFill>
                <a:latin typeface="Trebuchet MS"/>
              </a:rPr>
              <a:t>AÑO 2007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A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lumnos de grado : 3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Alumnos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de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postgrado: 2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Docentes: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  25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rebuchet MS"/>
                <a:ea typeface="Tahoma"/>
              </a:rPr>
              <a:t>Usuarios de Bibliote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Alumnos de grado: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28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88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Alumnos</a:t>
            </a:r>
            <a:r>
              <a:rPr b="0" lang="es-AR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de postgrado: </a:t>
            </a:r>
            <a:r>
              <a:rPr b="0" lang="es-AR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5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Docentes</a:t>
            </a:r>
            <a:r>
              <a:rPr b="0" lang="es-AR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, Investigadores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: </a:t>
            </a:r>
            <a:r>
              <a:rPr b="0" lang="es-AR" sz="2800" spc="-1" strike="noStrike">
                <a:solidFill>
                  <a:srgbClr val="ffffff"/>
                </a:solidFill>
                <a:latin typeface="Trebuchet MS"/>
                <a:ea typeface="Tahoma"/>
              </a:rPr>
              <a:t>58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ca de la Facultad de Derecho.UB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E9C-37EA-48CE-813B-CAC73ADA43D1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Préstamos 200</a:t>
            </a:r>
            <a:r>
              <a:rPr b="0" lang="es-AR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4</a:t>
            </a:r>
            <a:r>
              <a:rPr b="0" lang="es-ES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,200</a:t>
            </a:r>
            <a:r>
              <a:rPr b="0" lang="es-AR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5</a:t>
            </a:r>
            <a:r>
              <a:rPr b="0" lang="es-ES_tradnl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,</a:t>
            </a:r>
            <a:r>
              <a:rPr b="0" lang="es-ES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200</a:t>
            </a:r>
            <a:r>
              <a:rPr b="0" lang="es-AR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6</a:t>
            </a:r>
            <a:r>
              <a:rPr b="0" lang="es-ES_tradnl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,</a:t>
            </a:r>
            <a:r>
              <a:rPr b="0" lang="es-ES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20</a:t>
            </a:r>
            <a:r>
              <a:rPr b="0" lang="es-AR" sz="3600" spc="-1" strike="noStrike">
                <a:solidFill>
                  <a:srgbClr val="cbcbcb"/>
                </a:solidFill>
                <a:latin typeface="Trebuchet MS"/>
                <a:ea typeface="Tahoma"/>
              </a:rPr>
              <a:t>07</a:t>
            </a: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ño 2004: </a:t>
            </a:r>
            <a:r>
              <a:rPr b="0" i="1" lang="es-ES_tradnl" sz="2800" spc="-1" strike="noStrike">
                <a:solidFill>
                  <a:srgbClr val="ffffff"/>
                </a:solidFill>
                <a:latin typeface="Trebuchet MS"/>
              </a:rPr>
              <a:t>20897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ño 2005: 18704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ño 2006: 16676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n./jul. 2007: 822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ca de la Facultad de Derecho.U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293-9364-42B8-BF76-FE88689788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rebuchet MS"/>
                <a:ea typeface="Arial"/>
              </a:rPr>
              <a:t>Comparativo Renovaciones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Trebuchet MS"/>
                <a:ea typeface="Arial"/>
              </a:rPr>
              <a:t>(2004 - Julio 2007)</a:t>
            </a:r>
            <a:br>
              <a:rPr sz="2800"/>
            </a:b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80880" y="1828800"/>
            <a:ext cx="4524480" cy="3321000"/>
            <a:chOff x="380880" y="1828800"/>
            <a:chExt cx="4524480" cy="3321000"/>
          </a:xfrm>
        </p:grpSpPr>
        <p:sp>
          <p:nvSpPr>
            <p:cNvPr id="138" name=""/>
            <p:cNvSpPr/>
            <p:nvPr/>
          </p:nvSpPr>
          <p:spPr>
            <a:xfrm>
              <a:off x="380880" y="1828800"/>
              <a:ext cx="75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rebuchet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45000" y="1828800"/>
              <a:ext cx="36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rebuchet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45000" y="2590920"/>
              <a:ext cx="360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rebuchet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45000" y="3230640"/>
              <a:ext cx="360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rebuchet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45000" y="3870360"/>
              <a:ext cx="360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rebuchet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45000" y="4510080"/>
              <a:ext cx="360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rebuchet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133280" y="1828800"/>
              <a:ext cx="1650960" cy="762120"/>
              <a:chOff x="1133280" y="1828800"/>
              <a:chExt cx="1650960" cy="762120"/>
            </a:xfrm>
          </p:grpSpPr>
          <p:sp>
            <p:nvSpPr>
              <p:cNvPr id="145" name=""/>
              <p:cNvSpPr/>
              <p:nvPr/>
            </p:nvSpPr>
            <p:spPr>
              <a:xfrm>
                <a:off x="1133280" y="1828800"/>
                <a:ext cx="165096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133280" y="1828800"/>
                <a:ext cx="1650960" cy="762120"/>
                <a:chOff x="1133280" y="1828800"/>
                <a:chExt cx="1650960" cy="7621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133280" y="1828800"/>
                  <a:ext cx="165096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rebuchet MS"/>
                      <a:ea typeface="Arial"/>
                    </a:rPr>
                    <a:t>Circulación y Prestamo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33280" y="1828800"/>
                  <a:ext cx="1650960" cy="762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" name=""/>
            <p:cNvGrpSpPr/>
            <p:nvPr/>
          </p:nvGrpSpPr>
          <p:grpSpPr>
            <a:xfrm>
              <a:off x="2784240" y="1828800"/>
              <a:ext cx="866880" cy="762120"/>
              <a:chOff x="2784240" y="1828800"/>
              <a:chExt cx="866880" cy="762120"/>
            </a:xfrm>
          </p:grpSpPr>
          <p:sp>
            <p:nvSpPr>
              <p:cNvPr id="150" name=""/>
              <p:cNvSpPr/>
              <p:nvPr/>
            </p:nvSpPr>
            <p:spPr>
              <a:xfrm>
                <a:off x="2784240" y="1828800"/>
                <a:ext cx="86688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2784240" y="1828800"/>
                <a:ext cx="866880" cy="762120"/>
                <a:chOff x="2784240" y="1828800"/>
                <a:chExt cx="866880" cy="762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784240" y="1828800"/>
                  <a:ext cx="86688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rebuchet MS"/>
                      <a:ea typeface="Arial"/>
                    </a:rPr>
                    <a:t>We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84240" y="1828800"/>
                  <a:ext cx="866880" cy="762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3651120" y="1828800"/>
              <a:ext cx="893880" cy="762120"/>
              <a:chOff x="3651120" y="1828800"/>
              <a:chExt cx="893880" cy="762120"/>
            </a:xfrm>
          </p:grpSpPr>
          <p:sp>
            <p:nvSpPr>
              <p:cNvPr id="155" name=""/>
              <p:cNvSpPr/>
              <p:nvPr/>
            </p:nvSpPr>
            <p:spPr>
              <a:xfrm>
                <a:off x="3651120" y="1828800"/>
                <a:ext cx="89388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3651120" y="1828800"/>
                <a:ext cx="893880" cy="762120"/>
                <a:chOff x="3651120" y="1828800"/>
                <a:chExt cx="893880" cy="7621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51120" y="1828800"/>
                  <a:ext cx="893880" cy="762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rebuchet MS"/>
                      <a:ea typeface="Arial"/>
                    </a:rPr>
                    <a:t>OPA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51120" y="1828800"/>
                  <a:ext cx="893880" cy="762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380880" y="2590920"/>
              <a:ext cx="752400" cy="639720"/>
              <a:chOff x="380880" y="2590920"/>
              <a:chExt cx="752400" cy="639720"/>
            </a:xfrm>
          </p:grpSpPr>
          <p:sp>
            <p:nvSpPr>
              <p:cNvPr id="160" name=""/>
              <p:cNvSpPr/>
              <p:nvPr/>
            </p:nvSpPr>
            <p:spPr>
              <a:xfrm>
                <a:off x="380880" y="2590920"/>
                <a:ext cx="752400" cy="63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80880" y="2590920"/>
                <a:ext cx="752400" cy="639720"/>
                <a:chOff x="380880" y="2590920"/>
                <a:chExt cx="752400" cy="6397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80880" y="2590920"/>
                  <a:ext cx="752400" cy="63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rebuchet MS"/>
                      <a:ea typeface="Arial"/>
                    </a:rPr>
                    <a:t>200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0880" y="2590920"/>
                  <a:ext cx="752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1133280" y="2590920"/>
              <a:ext cx="1650960" cy="639720"/>
              <a:chOff x="1133280" y="2590920"/>
              <a:chExt cx="1650960" cy="639720"/>
            </a:xfrm>
          </p:grpSpPr>
          <p:sp>
            <p:nvSpPr>
              <p:cNvPr id="165" name=""/>
              <p:cNvSpPr/>
              <p:nvPr/>
            </p:nvSpPr>
            <p:spPr>
              <a:xfrm>
                <a:off x="1133280" y="2590920"/>
                <a:ext cx="16509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139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33280" y="2590920"/>
                <a:ext cx="165096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784240" y="2590920"/>
              <a:ext cx="866880" cy="639720"/>
              <a:chOff x="2784240" y="2590920"/>
              <a:chExt cx="866880" cy="639720"/>
            </a:xfrm>
          </p:grpSpPr>
          <p:sp>
            <p:nvSpPr>
              <p:cNvPr id="168" name=""/>
              <p:cNvSpPr/>
              <p:nvPr/>
            </p:nvSpPr>
            <p:spPr>
              <a:xfrm>
                <a:off x="2784240" y="2590920"/>
                <a:ext cx="8668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2219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84240" y="2590920"/>
                <a:ext cx="86688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651120" y="2590920"/>
              <a:ext cx="893880" cy="639720"/>
              <a:chOff x="3651120" y="2590920"/>
              <a:chExt cx="893880" cy="639720"/>
            </a:xfrm>
          </p:grpSpPr>
          <p:sp>
            <p:nvSpPr>
              <p:cNvPr id="171" name=""/>
              <p:cNvSpPr/>
              <p:nvPr/>
            </p:nvSpPr>
            <p:spPr>
              <a:xfrm>
                <a:off x="3651120" y="2590920"/>
                <a:ext cx="8938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4074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51120" y="2590920"/>
                <a:ext cx="89388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80880" y="3230640"/>
              <a:ext cx="752400" cy="639720"/>
              <a:chOff x="380880" y="3230640"/>
              <a:chExt cx="752400" cy="639720"/>
            </a:xfrm>
          </p:grpSpPr>
          <p:sp>
            <p:nvSpPr>
              <p:cNvPr id="174" name=""/>
              <p:cNvSpPr/>
              <p:nvPr/>
            </p:nvSpPr>
            <p:spPr>
              <a:xfrm>
                <a:off x="380880" y="3230640"/>
                <a:ext cx="752400" cy="63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3230640"/>
                <a:ext cx="752400" cy="639720"/>
                <a:chOff x="380880" y="3230640"/>
                <a:chExt cx="7524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80880" y="3230640"/>
                  <a:ext cx="752400" cy="63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rebuchet MS"/>
                      <a:ea typeface="Arial"/>
                    </a:rPr>
                    <a:t>200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3230640"/>
                  <a:ext cx="752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133280" y="3230640"/>
              <a:ext cx="1650960" cy="639720"/>
              <a:chOff x="1133280" y="3230640"/>
              <a:chExt cx="1650960" cy="639720"/>
            </a:xfrm>
          </p:grpSpPr>
          <p:sp>
            <p:nvSpPr>
              <p:cNvPr id="179" name=""/>
              <p:cNvSpPr/>
              <p:nvPr/>
            </p:nvSpPr>
            <p:spPr>
              <a:xfrm>
                <a:off x="1133280" y="3230640"/>
                <a:ext cx="16509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274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33280" y="3230640"/>
                <a:ext cx="165096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784240" y="3230640"/>
              <a:ext cx="866880" cy="639720"/>
              <a:chOff x="2784240" y="3230640"/>
              <a:chExt cx="866880" cy="639720"/>
            </a:xfrm>
          </p:grpSpPr>
          <p:sp>
            <p:nvSpPr>
              <p:cNvPr id="182" name=""/>
              <p:cNvSpPr/>
              <p:nvPr/>
            </p:nvSpPr>
            <p:spPr>
              <a:xfrm>
                <a:off x="2784240" y="3230640"/>
                <a:ext cx="8668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2472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784240" y="3230640"/>
                <a:ext cx="86688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651120" y="3230640"/>
              <a:ext cx="893880" cy="639720"/>
              <a:chOff x="3651120" y="3230640"/>
              <a:chExt cx="893880" cy="639720"/>
            </a:xfrm>
          </p:grpSpPr>
          <p:sp>
            <p:nvSpPr>
              <p:cNvPr id="185" name=""/>
              <p:cNvSpPr/>
              <p:nvPr/>
            </p:nvSpPr>
            <p:spPr>
              <a:xfrm>
                <a:off x="3651120" y="3230640"/>
                <a:ext cx="8938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3202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51120" y="3230640"/>
                <a:ext cx="89388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80880" y="3870360"/>
              <a:ext cx="752400" cy="639720"/>
              <a:chOff x="380880" y="3870360"/>
              <a:chExt cx="752400" cy="639720"/>
            </a:xfrm>
          </p:grpSpPr>
          <p:sp>
            <p:nvSpPr>
              <p:cNvPr id="188" name=""/>
              <p:cNvSpPr/>
              <p:nvPr/>
            </p:nvSpPr>
            <p:spPr>
              <a:xfrm>
                <a:off x="380880" y="3870360"/>
                <a:ext cx="752400" cy="63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80880" y="3870360"/>
                <a:ext cx="752400" cy="639720"/>
                <a:chOff x="380880" y="3870360"/>
                <a:chExt cx="752400" cy="6397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80880" y="3870360"/>
                  <a:ext cx="752400" cy="63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rebuchet MS"/>
                      <a:ea typeface="Arial"/>
                    </a:rPr>
                    <a:t>200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80880" y="3870360"/>
                  <a:ext cx="752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1133280" y="3870360"/>
              <a:ext cx="1650960" cy="639720"/>
              <a:chOff x="1133280" y="3870360"/>
              <a:chExt cx="1650960" cy="63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1133280" y="3870360"/>
                <a:ext cx="16509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115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33280" y="3870360"/>
                <a:ext cx="165096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784240" y="3870360"/>
              <a:ext cx="866880" cy="639720"/>
              <a:chOff x="2784240" y="3870360"/>
              <a:chExt cx="866880" cy="63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2784240" y="3870360"/>
                <a:ext cx="8668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2568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784240" y="3870360"/>
                <a:ext cx="86688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651120" y="3870360"/>
              <a:ext cx="893880" cy="639720"/>
              <a:chOff x="3651120" y="3870360"/>
              <a:chExt cx="893880" cy="63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3651120" y="3870360"/>
                <a:ext cx="8938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2612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51120" y="3870360"/>
                <a:ext cx="89388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80880" y="4510080"/>
              <a:ext cx="752400" cy="639720"/>
              <a:chOff x="380880" y="4510080"/>
              <a:chExt cx="752400" cy="63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380880" y="4510080"/>
                <a:ext cx="752400" cy="63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380880" y="4510080"/>
                <a:ext cx="752400" cy="639720"/>
                <a:chOff x="380880" y="4510080"/>
                <a:chExt cx="752400" cy="639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80880" y="4510080"/>
                  <a:ext cx="752400" cy="63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rebuchet MS"/>
                      <a:ea typeface="Arial"/>
                    </a:rPr>
                    <a:t>200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80880" y="4510080"/>
                  <a:ext cx="752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133280" y="4510080"/>
              <a:ext cx="1650960" cy="639720"/>
              <a:chOff x="1133280" y="4510080"/>
              <a:chExt cx="1650960" cy="63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1133280" y="4510080"/>
                <a:ext cx="16509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18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33280" y="4510080"/>
                <a:ext cx="165096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784240" y="4510080"/>
              <a:ext cx="866880" cy="639720"/>
              <a:chOff x="2784240" y="4510080"/>
              <a:chExt cx="866880" cy="639720"/>
            </a:xfrm>
          </p:grpSpPr>
          <p:sp>
            <p:nvSpPr>
              <p:cNvPr id="210" name=""/>
              <p:cNvSpPr/>
              <p:nvPr/>
            </p:nvSpPr>
            <p:spPr>
              <a:xfrm>
                <a:off x="2784240" y="4510080"/>
                <a:ext cx="8668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1569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84240" y="4510080"/>
                <a:ext cx="86688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651120" y="4510080"/>
              <a:ext cx="893880" cy="639720"/>
              <a:chOff x="3651120" y="4510080"/>
              <a:chExt cx="893880" cy="639720"/>
            </a:xfrm>
          </p:grpSpPr>
          <p:sp>
            <p:nvSpPr>
              <p:cNvPr id="213" name=""/>
              <p:cNvSpPr/>
              <p:nvPr/>
            </p:nvSpPr>
            <p:spPr>
              <a:xfrm>
                <a:off x="3651120" y="4510080"/>
                <a:ext cx="89388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  <a:ea typeface="Arial"/>
                  </a:rPr>
                  <a:t>972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51120" y="4510080"/>
                <a:ext cx="893880" cy="6397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5" name="clip_image001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143240" cy="27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309760" y="-1892160"/>
            <a:ext cx="4527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619520" y="1828800"/>
            <a:ext cx="4524480" cy="10875960"/>
            <a:chOff x="4619520" y="1828800"/>
            <a:chExt cx="4524480" cy="10875960"/>
          </a:xfrm>
        </p:grpSpPr>
        <p:sp>
          <p:nvSpPr>
            <p:cNvPr id="218" name=""/>
            <p:cNvSpPr/>
            <p:nvPr/>
          </p:nvSpPr>
          <p:spPr>
            <a:xfrm>
              <a:off x="4619520" y="182880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24560" y="182880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29240" y="182880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34280" y="182880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38960" y="182880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19520" y="246852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24560" y="246852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9240" y="246852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34280" y="246852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38960" y="246852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19520" y="310824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24560" y="310824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29240" y="310824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34280" y="310824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38960" y="310824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19520" y="374796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24560" y="374796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29240" y="374796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34280" y="374796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38960" y="374796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19520" y="4387680"/>
              <a:ext cx="905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24560" y="4387680"/>
              <a:ext cx="9046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29240" y="4387680"/>
              <a:ext cx="905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34280" y="4387680"/>
              <a:ext cx="9046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8960" y="4387680"/>
              <a:ext cx="905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19520" y="502776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24560" y="502776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29240" y="502776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34280" y="502776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38960" y="502776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19520" y="566748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24560" y="566748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29240" y="566748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34280" y="566748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38960" y="566748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19520" y="630720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24560" y="630720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29240" y="630720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34280" y="630720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38960" y="630720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19520" y="694692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24560" y="694692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29240" y="694692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34280" y="694692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38960" y="694692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9520" y="758664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24560" y="758664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29240" y="758664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34280" y="758664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38960" y="758664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19520" y="822636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24560" y="822636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29240" y="822636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34280" y="822636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38960" y="822636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19520" y="886608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24560" y="886608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29240" y="886608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34280" y="886608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38960" y="886608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19520" y="9505800"/>
              <a:ext cx="905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4560" y="9505800"/>
              <a:ext cx="9046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29240" y="9505800"/>
              <a:ext cx="905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4280" y="9505800"/>
              <a:ext cx="9046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38960" y="9505800"/>
              <a:ext cx="905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19520" y="1014588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24560" y="1014588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29240" y="1014588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34280" y="1014588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38960" y="1014588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19520" y="1078560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24560" y="1078560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9240" y="1078560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34280" y="1078560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38960" y="1078560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19520" y="1142532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24560" y="1142532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9240" y="1142532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34280" y="1142532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38960" y="1142532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19520" y="1206504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4560" y="1206504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29240" y="1206504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34280" y="12065040"/>
              <a:ext cx="904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38960" y="12065040"/>
              <a:ext cx="9050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ca de la Facultad de Derecho.UB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2DE-C4AD-4118-8D8B-13264ABD74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bcbcb"/>
                </a:solidFill>
                <a:latin typeface="Trebuchet MS"/>
                <a:ea typeface="Times New Roman"/>
              </a:rPr>
              <a:t>VISITAS A LA PAG. W</a:t>
            </a:r>
            <a:r>
              <a:rPr b="1" lang="es-AR" sz="3600" spc="-1" strike="noStrike">
                <a:solidFill>
                  <a:srgbClr val="cbcbcb"/>
                </a:solidFill>
                <a:latin typeface="Trebuchet MS"/>
                <a:ea typeface="Times New Roman"/>
              </a:rPr>
              <a:t>EB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286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tablebar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19320" y="1752480"/>
            <a:ext cx="6686280" cy="1905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762120" y="3645000"/>
            <a:ext cx="4572000" cy="32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001</a:t>
            </a: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        </a:t>
            </a:r>
            <a:r>
              <a:rPr b="0" lang="es-ES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5.16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0</a:t>
            </a: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02          41.8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003</a:t>
            </a: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       69.93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004          74.118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005          88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	</a:t>
            </a: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	</a:t>
            </a: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006          </a:t>
            </a:r>
            <a:r>
              <a:rPr b="0" lang="es-ES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138.55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	</a:t>
            </a: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     </a:t>
            </a: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2007          </a:t>
            </a:r>
            <a:r>
              <a:rPr b="0" lang="es-ES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97.73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Total         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515.776</a:t>
            </a:r>
            <a:r>
              <a:rPr b="0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1600200"/>
            <a:ext cx="761760" cy="1905120"/>
          </a:xfrm>
          <a:prstGeom prst="rect">
            <a:avLst/>
          </a:prstGeom>
          <a:solidFill>
            <a:srgbClr val="99e3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0" y="1828800"/>
            <a:ext cx="762120" cy="1676520"/>
          </a:xfrm>
          <a:prstGeom prst="rect">
            <a:avLst/>
          </a:prstGeom>
          <a:solidFill>
            <a:srgbClr val="99e3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410080" y="1599840"/>
            <a:ext cx="10670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1600200"/>
            <a:ext cx="8380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ca de la Facultad de Derecho.UB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6F6-E3BA-4A12-BB3A-C200F6D415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bcbcb"/>
                </a:solidFill>
                <a:latin typeface="Trebuchet MS"/>
                <a:ea typeface="Times New Roman"/>
              </a:rPr>
              <a:t>“</a:t>
            </a:r>
            <a:r>
              <a:rPr b="0" lang="es-AR" sz="2400" spc="-1" strike="noStrike">
                <a:solidFill>
                  <a:srgbClr val="cbcbcb"/>
                </a:solidFill>
                <a:latin typeface="Trebuchet MS"/>
                <a:ea typeface="Times New Roman"/>
              </a:rPr>
              <a:t>REFERENCIA VIRTUAL:</a:t>
            </a:r>
            <a:r>
              <a:rPr b="0" lang="es-ES" sz="2400" spc="-1" strike="noStrike">
                <a:solidFill>
                  <a:srgbClr val="cbcbcb"/>
                </a:solidFill>
                <a:latin typeface="Trebuchet MS"/>
                <a:ea typeface="Times New Roman"/>
              </a:rPr>
              <a:t>Uso del computador y las tecnologías de comunicaciones para proporcionar servicios de referencia a usuarios en cualquier momento y en cualquier lugar.</a:t>
            </a: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 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Asincrón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sultas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rreo electró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Formularios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incrónic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esiones de chat y voz por IP, donde el usuario y el bibliotecario </a:t>
            </a:r>
            <a:r>
              <a:rPr b="0" lang="es-A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e comunican en tiempo r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efinición de OCLC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ca de la Facultad de Derecho.UB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A74-A8E7-4AFC-9F4D-660470B2E1EA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bcbcb"/>
                </a:solidFill>
                <a:latin typeface="Times New Roman"/>
              </a:rPr>
              <a:t>Referencia Virtual:</a:t>
            </a:r>
            <a:br>
              <a:rPr sz="4400"/>
            </a:br>
            <a:r>
              <a:rPr b="0" lang="es-MX" sz="4400" spc="-1" strike="noStrike">
                <a:solidFill>
                  <a:srgbClr val="cbcbcb"/>
                </a:solidFill>
                <a:latin typeface="Times New Roman"/>
              </a:rPr>
              <a:t>Diseño de Servicios para Usuarios Remo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iblioteca de la Facultad de Derecho.U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E594-4AEB-4C5E-BFC7-40C431FEEF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20:17:11Z</dcterms:created>
  <dc:creator>Dirección1</dc:creator>
  <dc:description/>
  <dc:language>en-US</dc:language>
  <cp:lastModifiedBy>ctiribelli</cp:lastModifiedBy>
  <dcterms:modified xsi:type="dcterms:W3CDTF">2007-08-28T16:32:29Z</dcterms:modified>
  <cp:revision>21</cp:revision>
  <dc:subject/>
  <dc:title>FACULTD DE DERECHO UNIVERSIDAD DE BUENOS AIRES</dc:title>
</cp:coreProperties>
</file>