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C779-8899-4C28-BAEE-C064D1B649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BF1-0BB3-4F61-BFAD-C4246782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356F-E87D-4DAE-8C35-648F9E33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FE44-340A-48CC-BE9F-2B7228E2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855C-8912-4836-A50E-93B21259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437C-2483-4F9E-80AA-F5574721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A7D2-9B11-4918-A44B-1E712AB2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26D6-DEC7-48A9-BB3F-3FBDA073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6EC7-C444-4564-A1C6-B88FB07B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CFCF-73A7-4006-8D16-AE713561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401D-3DA8-43C5-A4E1-2BB502C6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146F-D368-42DA-A383-B9528C04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C12-FA79-4386-9510-C114A48B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68AB-E07E-463B-A36C-815FF77C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9A4D-916F-4F90-9647-93BC2555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9DB9-C81A-4BE7-9E91-EC0B7C25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1CBF-9440-479E-A075-AD31CF8C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4ED8-8B68-4254-9796-B31ABBBF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539-E5AA-4552-94E8-EF34A976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046B-D03D-46C3-B777-FB5C2FD9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ECE-EF05-444E-BDBE-38F73AA2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A547-9263-4105-BEFB-56957CCE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1348-5BA6-4869-B07C-20786111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0A3-536C-46CA-B478-C546B17F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2F28-9F52-49CB-B687-088D2ECD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A14A-1985-44F9-BA0D-9816354EFE43}" type="slidenum">
              <a:rPr b="0" lang="es-E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33D8-392B-40B3-93C6-A58D91FF7329}" type="slidenum">
              <a:rPr b="0" lang="es-E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REFERENCIA VIRTUAL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REFERENCIA EN LINE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REFERENCIA EN LÍNE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CORREO ELECTRÓNICO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ORMULARIO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ECEPCIÓN DE CORREOS CENTRALIZAD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ESPUESTA POR SECTOR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BASE DE DATO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PAUTA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HA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CORREO ELECTRÓNICO</a:t>
            </a:r>
            <a:br>
              <a:rPr sz="4400"/>
            </a:b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brefenlinea@derecho.uba.ar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Referenci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Jurisprudencia y legislació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Hemerotec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ala Multimedi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Usuario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Otros sectores de la Facultad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876320" y="14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ALGUNAS CIFRA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64c"/>
                </a:solidFill>
                <a:latin typeface="Times New Roman"/>
              </a:rPr>
              <a:t>218 CONSULTAS (Desde diciembre del 2006 hasta julio del 2007)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64c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00264c"/>
                </a:solidFill>
                <a:latin typeface="Times New Roman"/>
              </a:rPr>
              <a:t>133 Alumnos de grad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64c"/>
                </a:solidFill>
                <a:latin typeface="Times New Roman"/>
              </a:rPr>
              <a:t>       </a:t>
            </a:r>
            <a:r>
              <a:rPr b="0" lang="es-ES" sz="2000" spc="-1" strike="noStrike">
                <a:solidFill>
                  <a:srgbClr val="00264c"/>
                </a:solidFill>
                <a:latin typeface="Times New Roman"/>
              </a:rPr>
              <a:t>14  Alumnos de postgrad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r>
              <a:rPr b="0" lang="es-ES" sz="2000" spc="-1" strike="noStrike">
                <a:solidFill>
                  <a:srgbClr val="00264c"/>
                </a:solidFill>
                <a:latin typeface="Times New Roman"/>
              </a:rPr>
              <a:t>23  Docentes/Investigador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r>
              <a:rPr b="0" lang="es-ES" sz="2000" spc="-1" strike="noStrike">
                <a:solidFill>
                  <a:srgbClr val="00264c"/>
                </a:solidFill>
                <a:latin typeface="Times New Roman"/>
              </a:rPr>
              <a:t>48  Usuarios externo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264c"/>
                </a:solidFill>
                <a:latin typeface="Times New Roman"/>
              </a:rPr>
              <a:t>23 Usuarios usaron el servicio más de 1 vez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64c"/>
                </a:solidFill>
                <a:latin typeface="Times New Roman"/>
              </a:rPr>
              <a:t>Tema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64c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264c"/>
                </a:solidFill>
                <a:latin typeface="Times New Roman"/>
              </a:rPr>
              <a:t>105 Consultas sobre la existencia de bibliografía en la Bibliotec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r>
              <a:rPr b="0" lang="es-ES" sz="2000" spc="-1" strike="noStrike">
                <a:solidFill>
                  <a:srgbClr val="00264c"/>
                </a:solidFill>
                <a:latin typeface="Times New Roman"/>
              </a:rPr>
              <a:t>25 Derechos Humano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64c"/>
                </a:solidFill>
                <a:latin typeface="Times New Roman"/>
              </a:rPr>
              <a:t>          </a:t>
            </a:r>
            <a:r>
              <a:rPr b="0" lang="es-ES" sz="2000" spc="-1" strike="noStrike">
                <a:solidFill>
                  <a:srgbClr val="00264c"/>
                </a:solidFill>
                <a:latin typeface="Times New Roman"/>
              </a:rPr>
              <a:t>8 Derecho pena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64c"/>
                </a:solidFill>
                <a:latin typeface="Times New Roman"/>
              </a:rPr>
              <a:t>          </a:t>
            </a:r>
            <a:r>
              <a:rPr b="0" lang="es-ES" sz="2000" spc="-1" strike="noStrike">
                <a:solidFill>
                  <a:srgbClr val="00264c"/>
                </a:solidFill>
                <a:latin typeface="Times New Roman"/>
              </a:rPr>
              <a:t>7 Derecho constituciona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64c"/>
                </a:solidFill>
                <a:latin typeface="Times New Roman"/>
              </a:rPr>
              <a:t>27 mails se enviaron a distintos sectores de la Facultad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3T12:49:28Z</dcterms:created>
  <dc:creator>sabadal</dc:creator>
  <dc:description/>
  <dc:language>en-US</dc:language>
  <cp:lastModifiedBy>ctiribelli</cp:lastModifiedBy>
  <dcterms:modified xsi:type="dcterms:W3CDTF">2007-08-07T22:44:46Z</dcterms:modified>
  <cp:revision>5</cp:revision>
  <dc:subject/>
  <dc:title>REFERENCIA VIRTUAL</dc:title>
</cp:coreProperties>
</file>